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897-5478-45A2-859E-EAEFA639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E2F-5CD3-44D6-88B0-0E6A160E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A62-A382-47C8-9D5D-26747677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CD7-5B60-43CA-AFA1-1D23026A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8BB-4030-4E8F-B9E2-432780E1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786-CEFA-4B5E-8FDB-94E20490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583-5ED9-4F52-B268-BD3EC5B0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FCC-534E-4A0F-AF42-6A9FB63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FC4-92E2-48F0-9FCC-FCA43D7A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B0A-557F-45F9-8954-1F424602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434-6DCB-419A-BEAE-D2CA182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52F-802F-468F-BC50-5E400A8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D7FC-DE62-45D3-8BF7-A0E7C86B5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ter</a:t>
            </a:r>
            <a:r>
              <a:rPr b="0" lang="cy-GB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nllun / Dyluniad / Cyfansodd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erarchaeth Weled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Times New Roman"/>
              </a:rPr>
              <a:t>Y Rheol Trydydd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ter</a:t>
            </a:r>
            <a:r>
              <a:rPr b="0" lang="cy-GB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sodiad</a:t>
            </a:r>
            <a:r>
              <a:rPr b="0" lang="cy-GB" sz="3200" spc="-1" strike="noStrike">
                <a:solidFill>
                  <a:srgbClr val="000000"/>
                </a:solidFill>
                <a:latin typeface="Times New Roman"/>
              </a:rPr>
              <a:t> – Delweddau, Geiriau, Ll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IDA- Denu, Diddordeb, Eisiau a Gweithr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erarchaeth Weledol – Beth sydd bwysica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 Rheol Trydydd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3513"/>
          <p:cNvPicPr/>
          <p:nvPr/>
        </p:nvPicPr>
        <p:blipFill>
          <a:blip r:embed="rId1"/>
          <a:stretch/>
        </p:blipFill>
        <p:spPr>
          <a:xfrm>
            <a:off x="2286000" y="0"/>
            <a:ext cx="4299120" cy="647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oster-m"/>
          <p:cNvPicPr/>
          <p:nvPr/>
        </p:nvPicPr>
        <p:blipFill>
          <a:blip r:embed="rId1"/>
          <a:stretch/>
        </p:blipFill>
        <p:spPr>
          <a:xfrm>
            <a:off x="2514600" y="0"/>
            <a:ext cx="3989520" cy="632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becks"/>
          <p:cNvPicPr/>
          <p:nvPr/>
        </p:nvPicPr>
        <p:blipFill>
          <a:blip r:embed="rId1"/>
          <a:stretch/>
        </p:blipFill>
        <p:spPr>
          <a:xfrm>
            <a:off x="2367000" y="268200"/>
            <a:ext cx="4411800" cy="632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513"/>
          <p:cNvPicPr/>
          <p:nvPr/>
        </p:nvPicPr>
        <p:blipFill>
          <a:blip r:embed="rId1"/>
          <a:stretch/>
        </p:blipFill>
        <p:spPr>
          <a:xfrm>
            <a:off x="1295280" y="1371600"/>
            <a:ext cx="267984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oster-m"/>
          <p:cNvPicPr/>
          <p:nvPr/>
        </p:nvPicPr>
        <p:blipFill>
          <a:blip r:embed="rId2"/>
          <a:stretch/>
        </p:blipFill>
        <p:spPr>
          <a:xfrm>
            <a:off x="4648320" y="1371600"/>
            <a:ext cx="2552760" cy="4041720"/>
          </a:xfrm>
          <a:prstGeom prst="rect">
            <a:avLst/>
          </a:prstGeom>
          <a:ln w="0">
            <a:noFill/>
          </a:ln>
        </p:spPr>
      </p:pic>
      <p:sp>
        <p:nvSpPr>
          <p:cNvPr id="50" name="Line 6"/>
          <p:cNvSpPr/>
          <p:nvPr/>
        </p:nvSpPr>
        <p:spPr>
          <a:xfrm>
            <a:off x="2124000" y="98100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132000" y="98100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826920" y="27082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55640" y="4797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3:38:25Z</dcterms:created>
  <dc:creator>Castell Alun HS</dc:creator>
  <dc:description/>
  <dc:language>en-US</dc:language>
  <cp:lastModifiedBy>TimData</cp:lastModifiedBy>
  <dcterms:modified xsi:type="dcterms:W3CDTF">2015-05-06T18:14:09Z</dcterms:modified>
  <cp:revision>6</cp:revision>
  <dc:subject/>
  <dc:title>Posters</dc:title>
</cp:coreProperties>
</file>